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C4D-ECEE-4072-BE77-A09BD6E1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2E5-506B-4AA5-8C63-E010AAC4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1CC-899B-4A51-857F-ED239057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926-D202-475A-9660-6F81EED5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EB5B-ECB2-402E-A811-E5B4B1B2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52C9-E603-47AA-BE82-2D39CA1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7279-3A47-4BF6-A63B-D2FE8423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9EE7-FE78-4135-9189-5ADB11BF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B366-35BE-4EA7-8FF2-CCE56B9E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E6F8-B4C6-4D37-865D-68D17814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860D-5A54-49D8-BE59-E0B1F007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C55-CFCD-4855-8FD5-34A09507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E771-86AD-45FB-ACD7-A148F980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FC43-45E5-4752-8630-DEEAE0AA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7B19-A850-413F-B82E-8F2E4573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4A3F-96E8-407A-90BF-E2C54276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90F6-9EF2-4892-BEEE-FC675499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7CA-42B6-435F-AF29-159E0F36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32D-E172-430B-B3BE-6FCC4D4A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CD9-1621-469C-9D3D-E17FD332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8A3-DCBC-4BAE-8A1A-847DD3EE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024-A8EE-4204-A1B5-E86CDDC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00C-3F8A-41A6-86F3-903776B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A44-AF33-44BD-A026-50840408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5B6-99BF-497B-988A-D7D0B599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F415-C57B-4953-9B6E-6CFE27643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rush Script MT"/>
              </a:rPr>
              <a:t>Russian Movement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By: Sai Allu and Nhi Tru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Period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hiller"/>
              </a:rPr>
              <a:t>Ways of Transpor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Sub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Bi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Wal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Tra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Carriages pulled by hor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Inland Water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horsey"/>
          <p:cNvPicPr/>
          <p:nvPr/>
        </p:nvPicPr>
        <p:blipFill>
          <a:blip r:embed="rId1"/>
          <a:stretch/>
        </p:blipFill>
        <p:spPr>
          <a:xfrm>
            <a:off x="4038480" y="3276720"/>
            <a:ext cx="4800600" cy="319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train_front"/>
          <p:cNvPicPr/>
          <p:nvPr/>
        </p:nvPicPr>
        <p:blipFill>
          <a:blip r:embed="rId2"/>
          <a:stretch/>
        </p:blipFill>
        <p:spPr>
          <a:xfrm>
            <a:off x="6629400" y="685800"/>
            <a:ext cx="212724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Disadvant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Transportation takes a long and is un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Goes through the Ural Mount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Inland waterways are important, but many long rivers drain north into the frigid Arctic Ocean and freeze in the wi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Ural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Snap ITC"/>
              </a:rPr>
              <a:t>Problem of the Land that Affects Transport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Russia is very large, so Trans-Siberian Railroad costs a lot of money. Especially from Moscow to Vladivost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Has very few roa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In the east part it is very mountai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ush Script MT"/>
              </a:rPr>
              <a:t>Transportation in Mosc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tro is all one zone there is no special z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tro is open from 5:20 A.M to 1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hours for the metro in Moscow are 8:00 A.M. to 9:00 A.M. and 17:00 P.M. to 19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around Moscow by metro and public transport | waytorussia.net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18:07Z</dcterms:created>
  <dc:creator> </dc:creator>
  <dc:description/>
  <dc:language>en-US</dc:language>
  <cp:lastModifiedBy>sai pulukuri</cp:lastModifiedBy>
  <dcterms:modified xsi:type="dcterms:W3CDTF">2010-12-16T22:16:48Z</dcterms:modified>
  <cp:revision>7</cp:revision>
  <dc:subject/>
  <dc:title>Russian Movement </dc:title>
</cp:coreProperties>
</file>